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3F42-2E02-48C4-A3F5-1D71692A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0596-9D1E-4E99-BF3E-774C52AA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93C0-F779-485A-BA65-D1C17979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1A44-6806-468F-9416-377328AC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659C-7985-40CB-9CB7-291B6BC1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3DBE-235F-4FEB-BBA6-5E708262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7673-B21D-4D13-9160-3E2C1027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332-70BC-469E-90B5-4886E85C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242B-8613-4450-9F4E-AD2944C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E02A-65D1-459B-BBE6-C1FDDE4E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CB2F-2AB6-4FF5-8315-9EE22FD5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85C9-BEAE-4166-A118-ADE1624A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A46-EA11-47A6-8298-35E61A3C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C7DD-5114-473D-B704-7B5D6129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AC2-E2A7-41DF-9EC0-946F02AE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FB76-8177-4893-B271-673B686A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12A7-5CDA-4133-9A41-B4DC678D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679-7FFA-46E5-A1BE-0135DBD5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6338-0146-4835-A64B-E52FF6CC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E24-87C7-4264-B407-E4B461E3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0AA-F9CF-40EB-9A8C-9F49966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0C1A-4D39-4215-A765-B261380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8B0-4344-4DBF-A2F4-E13F586B0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08A1-61A3-44BB-89E7-E5A91F3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538F-04B9-4422-A131-4C6DCC572E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B342-15D5-40BF-A8C4-AB84FECE84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HaCk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OOLS &amp; TECHNIQUE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Scanners &amp; Sniff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anners Query TCP/IP port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services are runn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Satan, Nmap etc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niffers capture network pack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ree sniffer - Gobbler (MSDO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net Trojan Virus’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Major Internet Trojan Virus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B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ck Ori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parts consisteing of a Server &amp; a Clien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ts up a Server on the remote machine that can be accessed through the Client progra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mote user has complete access to infected mach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net Trojan Virus’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42856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tBus binds to TCP port 1234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ck Oriface binds to UDP port 3133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th can be reconfigured to bind to any por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oth have servers that appear to be gam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bus - WackaMole.ex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whackamole" descr=""/>
          <p:cNvPicPr/>
          <p:nvPr/>
        </p:nvPicPr>
        <p:blipFill>
          <a:blip r:embed="rId1"/>
          <a:stretch/>
        </p:blipFill>
        <p:spPr>
          <a:xfrm>
            <a:off x="6095880" y="5029200"/>
            <a:ext cx="129564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ternet Trojan Virus’s     NetBu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netbus" descr=""/>
          <p:cNvPicPr/>
          <p:nvPr/>
        </p:nvPicPr>
        <p:blipFill>
          <a:blip r:embed="rId1"/>
          <a:stretch/>
        </p:blipFill>
        <p:spPr>
          <a:xfrm>
            <a:off x="0" y="826920"/>
            <a:ext cx="88390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66"/>
                </a:solidFill>
                <a:latin typeface="Times New Roman"/>
              </a:rPr>
              <a:t>Internet Trojan Virus’s       Back Orifac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bo" descr=""/>
          <p:cNvPicPr/>
          <p:nvPr/>
        </p:nvPicPr>
        <p:blipFill>
          <a:blip r:embed="rId1"/>
          <a:stretch/>
        </p:blipFill>
        <p:spPr>
          <a:xfrm>
            <a:off x="0" y="990720"/>
            <a:ext cx="58672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S (Denial Of Service)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nders system inoperatable thereby denying computer serv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ing of Deat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lood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urf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57440" y="-360"/>
            <a:ext cx="3886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6" name="winnuke" descr=""/>
          <p:cNvPicPr/>
          <p:nvPr/>
        </p:nvPicPr>
        <p:blipFill>
          <a:blip r:embed="rId1"/>
          <a:stretch/>
        </p:blipFill>
        <p:spPr>
          <a:xfrm>
            <a:off x="0" y="380880"/>
            <a:ext cx="5257800" cy="3289320"/>
          </a:xfrm>
          <a:prstGeom prst="rect">
            <a:avLst/>
          </a:prstGeom>
          <a:ln w="0">
            <a:noFill/>
          </a:ln>
        </p:spPr>
      </p:pic>
      <p:pic>
        <p:nvPicPr>
          <p:cNvPr id="127" name="nuke" descr=""/>
          <p:cNvPicPr/>
          <p:nvPr/>
        </p:nvPicPr>
        <p:blipFill>
          <a:blip r:embed="rId2"/>
          <a:stretch/>
        </p:blipFill>
        <p:spPr>
          <a:xfrm>
            <a:off x="3657600" y="3670200"/>
            <a:ext cx="5486400" cy="3187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5800" y="4495680"/>
            <a:ext cx="243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(Denial Of  Servic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llows the sharing of drives, folders or files over a networ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lows for password prote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 programs offer invaluable inf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btst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et  (net view and net us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184880" y="3962520"/>
            <a:ext cx="12733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33412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:\WINDOWS&gt;nbtstat -A 209.100.18.1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etBIOS Remote Machine Name Tab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ame               Type         Stat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-------------------------------------------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EMCOMPUTER       &lt;00&gt;  UNIQUE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EMWORKGROUP   &lt;00&gt;  GROUP 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EMCOMPUTER       &lt;03&gt;  UNIQUE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EMCOMPUTER       &lt;20&gt;  UNIQUE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JOHN DOE                  &lt;03&gt;  UNIQUE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EMWORKGROUP   &lt;1E&gt;  GROUP       Registe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C Addres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= 44-45-53-54-00-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121932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:\WINDOWS&gt;net view \\209.100.18.12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red resources at \\209.100.18.1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harename    Type         Comm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-----------------------------------------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ACKME       Dis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 command was completed successfully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184880" y="4114800"/>
            <a:ext cx="12733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genda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rts, Protocols , IP Addressing Introdu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cking Em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canners &amp; Sniff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S (Denial Of Service)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ternet Trojan Virus’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acking Windows Sha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97180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:\WINDOWS&gt;net use x: \\209.100.18.125\hack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The command was completed successfu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C:\WINDOWS&gt;x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X:\&gt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184880" y="4510080"/>
            <a:ext cx="12733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legion1" descr=""/>
          <p:cNvPicPr/>
          <p:nvPr/>
        </p:nvPicPr>
        <p:blipFill>
          <a:blip r:embed="rId1"/>
          <a:stretch/>
        </p:blipFill>
        <p:spPr>
          <a:xfrm>
            <a:off x="380880" y="611280"/>
            <a:ext cx="8458200" cy="62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Windows Sha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5573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se brute force to crack share passw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leg1a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610080" cy="3100680"/>
          </a:xfrm>
          <a:prstGeom prst="rect">
            <a:avLst/>
          </a:prstGeom>
          <a:ln w="0">
            <a:noFill/>
          </a:ln>
        </p:spPr>
      </p:pic>
      <p:pic>
        <p:nvPicPr>
          <p:cNvPr id="147" name="leg1b" descr=""/>
          <p:cNvPicPr/>
          <p:nvPr/>
        </p:nvPicPr>
        <p:blipFill>
          <a:blip r:embed="rId2"/>
          <a:stretch/>
        </p:blipFill>
        <p:spPr>
          <a:xfrm>
            <a:off x="4648320" y="3043080"/>
            <a:ext cx="4448160" cy="20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arious methods exist to exploit system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w breed of Hack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ript Kidd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ledge of these exploits aids preven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aining an understanding of how the exploits work increases computer knowledg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P Address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very computer on a network is assigned a unique 32 bit numb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ten expressed as a set of four 8 bit numbers called octe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:  208.125.11.5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asically a telephone # for compu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pressed as ii.jj.kk.ll &amp; are between 0-255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opback is 127.0.0.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ort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Virtual not physical 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rvices run on specific 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me well-known por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648320"/>
            <a:ext cx="5639040" cy="192276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TP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CP Port 2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elnet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CP Port 2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TP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CP Port 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TTP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CP Port 8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NNTP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TCP Port 119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Protocol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CP (Transmission Control Protoco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 way stream connection connected protoc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DP (User Datagram Protoco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nectionl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CMP (Internet Control Message Protocol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ow level operation of IP protoc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E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 common program used for mail on Unix boxes is Send M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ail Relay allows users from outside the system to use Send Mai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lnet to port 25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telnet mailhost.spamme.com 25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E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609480"/>
            <a:ext cx="8458200" cy="5943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:\WINDOWS&gt;telnet mailhost.aztecx.com 2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20 mailhost.aztecx.com  ESMTP Sendmail 8.8.5 is ready at Sat, 17 Apr 1999 16:58:10 GMT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This is Sendmail version 8.8.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Topic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    HELO    EHLO    MAIL    RCPT    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    RSET    NOOP    QUIT    HELP    VRF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    EXPN    VERB    ETRN    DS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For more info use "HELP &lt;topic&gt;"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To report bugs in the implementation send email 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    sendmail-bugs@sendmail.org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-For local information send email to Postmaster at your s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14 End of HELP inf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E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2557440"/>
            <a:ext cx="8458200" cy="375156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ail from: dorothy@somewhereovertherainbow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50 dorothy@somewhereovertherainbow.com... Sender 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cpt to: johndoe@ispnum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50 johndoe@ispnum.com... Recipient o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a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54 Enter mail, end with "." on a line by itsel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hello this is a test               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50 JXX33787 Message accepted for deli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acking Email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turn-Path: dorothy@somewhereovertherainbow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Received: from localhost.localdomain (user@myisp.com [222.222.222.57]) by cyberpass.net (8.8.8/8.7.3) with ESMTP id NAA77777 for &lt;johndoe@ispnum.com&gt;; Sat, 17 Apr 1999 13:56:44 -0700 (PDT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From: dorothy@somewhereovertherainbow.c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Date: Sat, 17 Apr 1999 12:53:21 -04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Message-Id: &lt;199904171653.MAA00778@localhost.localdomain&gt;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X-Mozilla-Status: 800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this is a te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14:00:26Z</dcterms:created>
  <dc:creator>Preferred Customer</dc:creator>
  <dc:description/>
  <dc:language>en-US</dc:language>
  <cp:lastModifiedBy>Preferred Customer</cp:lastModifiedBy>
  <dcterms:modified xsi:type="dcterms:W3CDTF">1999-04-18T13:30:20Z</dcterms:modified>
  <cp:revision>17</cp:revision>
  <dc:subject/>
  <dc:title>No Slide Title</dc:title>
</cp:coreProperties>
</file>